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7054-417B-4376-B838-A75EF98EB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C272-FC39-4E43-A372-19A17CCD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27D4-ED3F-4E0C-B5B1-9C32318B2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2323-4154-460F-B46C-31D9F16C3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38F7-095E-452A-AD3C-A96298DF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C8B8-2112-4F0E-BEEA-3C2D018E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206D-603F-43E9-BBB8-8EEA331C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BA5D-F36B-46A3-94EB-6E8613CD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A05E-D8E8-425B-B39F-EF3B3F21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B3FC-D46B-4113-8844-F85EDF55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9AD8-228A-42B3-BCD3-046F68BA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2874-963C-4DC9-B4E5-AA0D5B5E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8FEC-B36E-4ED1-8DCB-5B1DAA76C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533520"/>
            <a:ext cx="121896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8120" y="457200"/>
            <a:ext cx="121896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nd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67960" y="533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2057400" y="533160"/>
            <a:ext cx="304920" cy="6094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02720" y="1219320"/>
            <a:ext cx="141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a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base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8120" y="2362320"/>
            <a:ext cx="121896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nd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g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2840" y="1981080"/>
            <a:ext cx="114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hashtab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3657600"/>
            <a:ext cx="121932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oc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43400" y="3657600"/>
            <a:ext cx="121932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ject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oc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2880" y="38098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8" idx="0"/>
            <a:endCxn id="46" idx="1"/>
          </p:cNvCxnSpPr>
          <p:nvPr/>
        </p:nvCxnSpPr>
        <p:spPr>
          <a:xfrm flipH="1" flipV="1" rot="5400000">
            <a:off x="2171520" y="2781360"/>
            <a:ext cx="91476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6" idx="2"/>
            <a:endCxn id="48" idx="3"/>
          </p:cNvCxnSpPr>
          <p:nvPr/>
        </p:nvCxnSpPr>
        <p:spPr>
          <a:xfrm flipH="1">
            <a:off x="2819520" y="3124080"/>
            <a:ext cx="838440" cy="914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6" idx="2"/>
            <a:endCxn id="49" idx="1"/>
          </p:cNvCxnSpPr>
          <p:nvPr/>
        </p:nvCxnSpPr>
        <p:spPr>
          <a:xfrm>
            <a:off x="3657600" y="3124080"/>
            <a:ext cx="686160" cy="914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0"/>
            <a:endCxn id="46" idx="3"/>
          </p:cNvCxnSpPr>
          <p:nvPr/>
        </p:nvCxnSpPr>
        <p:spPr>
          <a:xfrm flipV="1" rot="16200000">
            <a:off x="4152600" y="2857320"/>
            <a:ext cx="914760" cy="686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963600" y="3733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42" idx="2"/>
            <a:endCxn id="46" idx="0"/>
          </p:cNvCxnSpPr>
          <p:nvPr/>
        </p:nvCxnSpPr>
        <p:spPr>
          <a:xfrm>
            <a:off x="3657600" y="1219320"/>
            <a:ext cx="360" cy="114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1" idx="3"/>
            <a:endCxn id="42" idx="1"/>
          </p:cNvCxnSpPr>
          <p:nvPr/>
        </p:nvCxnSpPr>
        <p:spPr>
          <a:xfrm>
            <a:off x="1752480" y="838080"/>
            <a:ext cx="12960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85800" y="5105520"/>
            <a:ext cx="121932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B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8" idx="2"/>
            <a:endCxn id="58" idx="0"/>
          </p:cNvCxnSpPr>
          <p:nvPr/>
        </p:nvCxnSpPr>
        <p:spPr>
          <a:xfrm flipH="1">
            <a:off x="1295280" y="4419720"/>
            <a:ext cx="9147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1676880" y="4724280"/>
            <a:ext cx="8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stac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58" idx="1"/>
            <a:endCxn id="48" idx="1"/>
          </p:cNvCxnSpPr>
          <p:nvPr/>
        </p:nvCxnSpPr>
        <p:spPr>
          <a:xfrm flipH="1" rot="10800000">
            <a:off x="685800" y="4038480"/>
            <a:ext cx="914760" cy="1448280"/>
          </a:xfrm>
          <a:prstGeom prst="curvedConnector3">
            <a:avLst>
              <a:gd name="adj1" fmla="val -85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3352680" y="1600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43880" y="1371600"/>
            <a:ext cx="265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ace: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ogical 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to allow for different OID schemes, 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62920" y="152280"/>
            <a:ext cx="68580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B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7314840" y="4572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61960" y="762120"/>
            <a:ext cx="2119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objects extend DB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give easy acces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functions e.g.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7T18:06:00Z</dcterms:created>
  <dc:creator>Paul Morgan</dc:creator>
  <dc:description/>
  <dc:language>en-US</dc:language>
  <cp:lastModifiedBy>Paul Morgan</cp:lastModifiedBy>
  <dcterms:modified xsi:type="dcterms:W3CDTF">1998-05-17T19:35:18Z</dcterms:modified>
  <cp:revision>2</cp:revision>
  <dc:subject/>
  <dc:title>No Slide Title</dc:title>
</cp:coreProperties>
</file>